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9B7E-87F4-48F8-B921-251FBC2C9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us Diseases</a:t>
            </a:r>
            <a:br>
              <a:rPr sz="1200"/>
            </a:br>
            <a:br>
              <a:rPr sz="1200"/>
            </a:b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is HIV spread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odily Flu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lood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men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aginal secreti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reast milk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ly Fl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ginal secre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 Contac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 intercours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ral sex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al sex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inter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l s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lood to Blood Contac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haring needles or syring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attooing - Pierc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ccidental needle stick in a medical sett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o Blood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needles or sy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ing - Pie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idental needle stick in a medical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cidental Cas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ther to baby during pregnancy and deliver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ther’s milk to bab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uring Dental Procedur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tal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to baby during pregnancy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’s milk to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Dental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 following body fluids are NOT infectiou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aliva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ear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wea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ec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Urin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body fluids are NOT infect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re are no true signs of having HIV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ne may experience flu – like symptoms of chills, fever, night sweats, rashes, etc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ome will have no signs or symptom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true signs of having HI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may experience flu – like symptoms of chills, fever, night sweats, rashes, et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ill have no signs o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HIV Work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gets into the bloodstrea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targets white blood cells (T4 cells)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irus slowly destroys T4 cell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orces T4 cells to make copies of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ventually the cell di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ves on to other T4 cell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an be up to 10 years before person shows sig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IV Wor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gets into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targets white blood cells (T4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lowly destroys T4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T4 cells to make copie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the cell 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on to other T4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up to 10 years before person shows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hases of HIV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n with no signs or symptoms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– does not mean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 – T4 cells are less than 200 cells per microliter of blood or serious conditions from long-term, damage to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pportunistic Infection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n with no signs or sympto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– does not mean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– T4 cells are less than 200 cells per microliter of blood or serious conditions from long-term, damage to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stic Inf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est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LISA – blood test that identifies whether a person has antibodies for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estern Blot Test – done to confirm the results of the Elisa test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cubation Window – it can take 6 wks to 6 mths for anti. to form after exposure to HIV. This test should be done at least 6 wks after a person is or thinks they are infected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 – blood test that identifies whether a person has antibodies for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Blot Test – done to confirm the results of the Elisa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bation Window – it can take 6 wks to 6 mths for anti. to form after exposure to HIV. This test should be done at least 6 wks after a person is or thinks they are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us Diseases - A disease caused by an agent that can pass from one living thing to anoth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mmunicable disease – an infectious disease that is passed from one person to another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 - A disease caused by an agent that can pass from one living thing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ble disease – an infectious disease that is passed from one person to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 – Acquired: a condition one must acquire or get infected with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 – Immune: it affects the body’s immune system, the part of the body which usually works to fight off germs such as bacteria and viruse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 – Deficiency: makes it not work properl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 – Syndrome: a group of sympto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Acquired: a condition one must acquire or get infected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– Immune: it affects the body’s immune system, the part of the body which usually works to fight off germs such as bacteria and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– Deficiency: makes it not work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– Syndrome: a group of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of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re are no common signs or symptoms for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eople may experience opportunistic infections – when the immune system is weakened and can attack the body.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X.- pneumoni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of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common signs or symptoms for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may experience opportunistic infections – when the immune system is weakened and can attack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-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 is not spread by: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asual contact – dry mouth kissing, hugging, being sneezed on or coughed on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squito bit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is not sprea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ual contact – dry mouth kissing, hugging, being sneezed on or coughed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to 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bstinence -  100%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ave Safe Sex - Practice Monogamy –  (when two people have intercourse with only each other for their entire lives)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on’t use dirty needl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teste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inence - 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afe Sex - Practice Monogamy –  (when two people have intercourse with only each other for their entire liv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dirty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Now that we have covered HIV and AIDS, 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is the difference in them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re they the same thing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y do these two things always get linked together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s one more dangerous then the other?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 we have covered HIV and AI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in them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y the same thing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se two things always get linked together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more dangerous then the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D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acts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ly Transmitted Diseas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ly Transmitt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is an STD?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ly Transmitted Disease - is serious, sometimes painful, and can cause a lot of serious damage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STD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ly Transmitted Disease - is serious, sometimes painful, and can cause a lot of serious dam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is STD Sprea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D is spread during close, sexual activity.  It is spread during vaginal, anal and oral sex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and Hepatitis are also spread by contact with infected bloo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T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 is spread during close, sexual activity.  It is spread during vaginal, anal and oral s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and Hepatitis are also spread by contact with infec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st STD germs need to live in warm, moist areas.  That’s why they infect the mouth, rectum and sex organ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TD germs need to live in warm, moist areas.  That’s why they infect the mouth, rectum and sex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do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checked ou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on’t hope the STD will go away.  It won’t!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check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hope the STD will go away.  It won’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causes Inf.Di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acteria - a type of microorganism that can cause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rep throat, food poisoning, urinary tract infection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iruses – a type of agent that can cause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ld, flu, cold sores, measles, mono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Inf.D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- a type of microorganism that can cause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p throat, food poisoning, urinary tract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– a type of agent that can cause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, flu, cold sores, measles, mo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watch fo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an unusual discharge or smell from your vagin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pain in your pelvic area – the area   between your belly button and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urning or itching around your vagina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watch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n unusual discharge or smell from your vag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ain in your pelvic area – the area   between your belly button and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urning or itching around your va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leeding from your vagina that is not your regular period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Pain deep inside your vagina when you have sex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leeding from your vagina that is not your regular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ain deep inside your vagina when you have s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watch for 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a drip or discharge from the penis, sores, bumps, or rednes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watch fo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 drip or discharge from the penis, sores, bumps, or red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oth men and 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Sores, bumps or blisters near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urning and pain when you urinate or have a bowel movemen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Need to urinate oft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and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ores, bumps or blisters near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urning and pain when you urinate or have a bowel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eed to urinate o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inued ……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Itching around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a swelling or redness in your throa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Flu-like feelings with fever, chills and ach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Itching around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a swelling or redness in your thr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Flu-like feelings with fever, chills and 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inued…..men and 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swelling in your groin, the area around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..men and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welling in your groin, the area around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to 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alk to your partn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Look closely at your partner – signs of ST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Use a latex cond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checked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your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your partner – signs of S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latex co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check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Know the signs and sympto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treated - don’t have sex until your treatment is complete. Your partner needs to be treated too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e 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reated - don’t have sex until your treatment is complete. Your partner needs to be treated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are they sprea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act with contaminated object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erson to pers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imals that spread disease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ood and wat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with contaminate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to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spread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efenses against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ki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hemical warfare on germs (sweat and oils produce acids that kill bacterial)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ucus membrane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omach ac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elpful microorganis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lammati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enses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warfare on germs (sweat and oils produce acids that kill bacter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membra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ful micro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m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eap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-cells – cells that regulate the action of the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tibodies – substances that stick to the surface of pathogens slowing their action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-cells – cells in the immune system that produce antibodies against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-cells – cells that regulate the action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– substances that stick to the surface of pathogens slowing their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cells – cells in the immune system that produce antibodies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mmunization – injection of a small amount of a pathogen that will provide protection against an infectious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tibiotics – drugs that kill or limit the growth of bacteri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zation – injection of a small amount of a pathogen that will provide protection against an infectiou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drugs that kill or limit the growth of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 – Human: virus can only infect hum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 – Immuno-deficiency: the effect of the virus is to create a deficiency, a failure to work properly with the body’s immune system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 – Virus: one of its characteristics is that it is incapable reproducing by itself.  It reproduces by taking over the machinery of the human cell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Human: virus can only infect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– Immuno-deficiency: the effect of the virus is to create a deficiency, a failure to work properly with the body’s immun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– Virus: one of its characteristics is that it is incapable reproducing by itself.  It reproduces by taking over the machinery of the huma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EF6-B891-493A-93F4-B6FD5D25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EF4-6446-42B9-A064-9B9979D6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85F-9DFD-4B12-A664-69EFA1DC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67E-189F-4698-94EA-0A0764CF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C5B7-04F1-4F2D-898D-EC5354A8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452B-6FB0-4398-9785-D2087DC9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B86E-D581-47A8-B5D2-2F588DF6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4F38-9F2C-436C-835F-5AAC284A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D653-8495-4177-B1D2-C17B34CD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98F4-5D24-4FEA-BEDE-5BC380E1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D7B3-AE36-42C4-9D8B-A963665F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3C0-07D0-4C99-8FA6-24BC8FEC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E0B8-34B6-41FB-884A-4CD96BF5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E5F5-A998-4BD1-9EB6-7DE4D3F5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D62C-DDA5-4951-9CF6-40E5157B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605F-CC3B-40DB-A3B5-B93A5D54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ECA5-5117-4FC8-95EF-05D7749F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7C2-0ED8-410A-B7D3-1370C89C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5AD-C087-4CA1-95A8-587DB2D7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21F-2B5F-43CF-A2A1-9E105B22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74F-3AD0-4D39-A073-31516289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FE7-A1E5-4F71-97A5-25647745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614-59B2-4822-8269-751ADF12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0166-B91D-4CC8-90D3-9573B276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491E-1879-44C9-944C-EAE2E29D70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50CB-E6CB-495D-B3BD-44DAAB196B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ow is HIV spread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odily Flui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lood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me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ginal secre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Sexual Contac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xual intercour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ral sex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nal se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Bloo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 Blood Conta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haring needles or syring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ttooing - Pierc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ccidental needle stick in a medical set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ncidental Cas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ther to baby during pregnancy and delive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ther’s milk to bab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uring Dental Procedur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following body fluids ar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fectio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aliv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e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igns and symptoms HIV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no true signs of having HIV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 may experience flu – like symptoms of chills, fever, night sweats, rashes, etc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will have no signs or sympto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ow HIV Work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gets into the bloodstr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targets white blood cells (T4 cell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rus slowly destroys T4 ce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ces T4 cells to make copies of H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ntually the cell d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ves on to other T4 ce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be up to 10 years before person shows sig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hases of HIV infe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ection with no signs or symptom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– does not mean A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gns and sympto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DS – T4 cells are less than 200 cells per microliter of blood or serious conditions from long-term, damage to immune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portunistic Infec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SA – blood test that identifies whether a person has antibodies for H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lot Test – done to confirm the results of the Elisa tes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ubation Window – it can take 6 wks to 6 mths for anti. to form after exposure to HIV. This test should be done at least 6 wks after a person is or thinks they are infect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AIDS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533520"/>
            <a:ext cx="8229600" cy="60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Diseases - A disease caused by an agent that can pass from one living thing to an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ble disease – an infectious disease that is passed from one person to anoth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– Acquired: a condition one must acquire or get infected wi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– Immune: it affects the body’s immune system, the part of the body which usually works to fight off germs such as bacteria and virus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 – Deficiency: makes it not work proper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 – Syndrome: a group of sympto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gns and symptoms of A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no common signs or symptoms for A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may experience opportunistic infections – when the immune system is weakened and can attack the bod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.- pneumon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IDS is not spread by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sual contact – dry mouth kissing, hugging, being sneezed on or coughed o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squito bi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Protect your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Abstinence -  100%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 Safe Sex - Practice Monogamy –  (when two people have intercourse with only each other for their entire li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’t use dirty need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t tes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Now that we have covered HIV and AIDS, 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What is the difference in them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Are they the same thing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Why do these two things always get linked together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Is one more dangerous then the other?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STD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Facts</a:t>
            </a:r>
            <a:br>
              <a:rPr sz="4000"/>
            </a:b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xu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mitted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an STD?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xually Transmitted Disease - is serious, sometimes painful, and can cause a lot of serious damage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STD Spre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D is spread during close, sexual activity.  It is spread during vaginal, anal and oral sex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and Hepatitis are also spread by contact with infected blo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761760" y="685800"/>
            <a:ext cx="784836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st STD germs need to live in warm, moist areas.  That’s why they infect the mouth, rectum and sex organ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What to d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et checked ou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on’t hope the STD will go away.  It won’t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uses Inf.D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ria - a type of microorganism that can cause dis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p throat, food poisoning, urinary tract infec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ruses – a type of agent that can cause dis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d, flu, cold sores, measles, mon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to watch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unusual discharge or smell from your vag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in your pelvic area – the area   between your belly button and sex org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rning or itching around your vagi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leeding from your vagina that is not your regular perio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 Pain deep inside your vagina when you hav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ex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to watch f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a drip or discharge from the penis, sores, bumps, or rednes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oth men and wom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Sores, bumps or blisters near your sex org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burning and pain when you urinate or have a bowel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Need to urinate oft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d 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Itching around your sex org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a swelling or redness in your thro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Flu-like feelings with fever, chills and a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d…..men and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swelling in your groin, the area around your sex orga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 to protect yoursel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alk to your part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ok closely at your partner – signs of ST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se a latex cond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t checked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tect yourse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now the signs and symptom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t treated -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n’t have sex until your treatment is complete. Your partner needs to be treated to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y sp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ct with contaminated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 to per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s that spread disea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d and 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enses against inf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mical warfare on germs (sweat and oils produce acids that kill bacteria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cus membra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omach ac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lpful micro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lamm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mmune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-cells – cells that regulate the action of the immune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bodies – substances that stick to the surface of pathogens slowing their a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-cells – cells in the immune system that produce antibodies against 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munization – injection of a small amount of a pathogen that will provide protection against an infectious diseas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ibiotics – drugs that kill or limit the growth of bacteri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HIV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uman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virus can only infect huma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mmuno-deficiency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the effect of the virus is to create a deficiency, a failure to work properly with the body’s immune system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Viru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one of its characteristics is that it is incapable reproducing by itself.  It reproduces by taking over the machinery of the human cel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6:42:26Z</dcterms:created>
  <dc:creator>workshop</dc:creator>
  <dc:description/>
  <dc:language>en-US</dc:language>
  <cp:lastModifiedBy>LEGION2</cp:lastModifiedBy>
  <dcterms:modified xsi:type="dcterms:W3CDTF">2016-01-14T10:13:31Z</dcterms:modified>
  <cp:revision>37</cp:revision>
  <dc:subject/>
  <dc:title>STD Facts</dc:title>
</cp:coreProperties>
</file>